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CEA-84C8-4937-B9CA-21882007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4CA-ECDB-47FD-B0D3-361CEA93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53F7-91BA-4FFF-BA7A-7FF81367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D7C-7429-4614-887A-7D987628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7A6-DD9D-4E0E-85E0-61C81266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1B2-EA75-4760-87EC-1FB8D57B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04D-7ECE-46DA-978E-FF9F36CE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08F2-CAFE-4645-8292-596E7BBA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522-0CE0-483B-BFE9-20E16B62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B08-C827-4133-B886-3DC0BF31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4ED-4327-4A11-916D-FB6B7A99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A76-A5DF-441A-8353-C1A1F418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3C60-FDBA-4388-AE3F-4B6AA01DB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447920"/>
            <a:ext cx="967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SHIRE  ASSOC                         ABINGTON                                       AVONDALE                              AVONDALE                                   AVONDALE  75TH                   BLACKWOOD  VICTORIA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WOOD  VICTORIA               BLACKWOOD  VICTORIA       BLACKWOOD  VICTORIA  100TH               BLANTYRE                                     BLANTYRE                                   BLANTY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NTYRE                                     BLANTYRE  100TH                            BLANTYRE  100TH                      BLANTYRE  125TH                     BLANTYRE  M.W.                       BLANTYRE  M.W.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00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NTYRE  M.W.                               BLANTYRE  M.W.                                   BOTHWELL                                   BOTHWELL                                   BOTHWELL                                BOTHW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64008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00160" y="189000"/>
            <a:ext cx="124308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513240" y="404640"/>
            <a:ext cx="1189080" cy="109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952880" y="18900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465960" y="18900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905600" y="333360"/>
            <a:ext cx="127980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60520" y="1989000"/>
            <a:ext cx="106020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657600" y="206064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5097600" y="2060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8048520" y="20606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2216160" y="3429000"/>
            <a:ext cx="1060560" cy="13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800520" y="3357720"/>
            <a:ext cx="1060560" cy="144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5240160" y="3645000"/>
            <a:ext cx="109728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6608880" y="378936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8048520" y="386064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60520" y="53006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2000160" y="4941720"/>
            <a:ext cx="1500120" cy="1449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3873600" y="5373720"/>
            <a:ext cx="93348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5313240" y="5445000"/>
            <a:ext cx="914400" cy="987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6753240" y="5445000"/>
            <a:ext cx="914400" cy="99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8193240" y="5373720"/>
            <a:ext cx="877680" cy="1009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704880" y="620640"/>
            <a:ext cx="874800" cy="85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2073240" y="1773360"/>
            <a:ext cx="120024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60520" y="364500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6608880" y="2060640"/>
            <a:ext cx="1104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9:54:24Z</dcterms:created>
  <dc:creator>JOHN YOUNG</dc:creator>
  <dc:description/>
  <dc:language>en-US</dc:language>
  <cp:lastModifiedBy>JY</cp:lastModifiedBy>
  <cp:lastPrinted>1999-12-15T20:27:10Z</cp:lastPrinted>
  <dcterms:modified xsi:type="dcterms:W3CDTF">2007-11-07T09:21:02Z</dcterms:modified>
  <cp:revision>24</cp:revision>
  <dc:subject/>
  <dc:title>No Slide Title</dc:title>
</cp:coreProperties>
</file>